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4.jpeg" ContentType="image/jpeg"/>
  <Override PartName="/ppt/media/image25.png" ContentType="image/png"/>
  <Override PartName="/ppt/media/image27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B629-3799-47D5-BD0B-2C2F262C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2895-4FD6-45C2-9540-4D0F209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AF6-7C1B-423D-A2BE-F57F14A3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671-F53A-472C-949F-B5418BA2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1A55-FA70-4FDE-A81C-13C97BDC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70BC-B117-47D5-B9E6-FC5A17EC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3D8-CE5B-42C6-999B-99B300AE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A761-BF1B-4FDB-9915-DE0B5D50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2D60-9FE1-45AB-90E4-566FC782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6440-792B-4CA1-8959-43F2D4B8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1C8-5907-477A-BBF7-FA5D860C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BB0-0BCB-4759-80CB-485426DA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F3A8-FB62-4A99-953B-09C2892A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8BA3-9C78-41DD-8737-2644869D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F97B-5132-49B1-A37F-055F4DBF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AFFB-E227-415D-845A-7E673413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B89F-BD99-4BF9-A14C-FBB2DB2D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3B9F-C2B6-4A15-A79F-5DB85A88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F7A8-2053-46BD-BC5E-0491842B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1B962-29F2-4887-9678-EAE54BE2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8BEDA-982D-4A11-8CEE-3B52D3CF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1929-E913-4190-95E7-5EDA8D9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542-4C45-472B-A58E-928E04AC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B2689-7AEE-4E66-844B-65A131A1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FD02-917D-4DAD-93B1-07192645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D676-7520-4C4F-A760-365211D8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B3B0-2CC1-4623-8013-322C63C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17BE6-A685-4FFB-A28A-46F67D51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69F3-A399-4B09-BA12-93115C5F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43AD-F154-438D-8314-655B99B0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0254-9F8C-43D9-86A7-C88B561C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43B8-CF5C-4F3A-B937-613C6AF2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FAAD-4ECF-4AEE-8843-A49441C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F99-B9A9-4184-B935-E2A0DD0C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ABFF-5303-459D-80E3-D0CD58AC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9C71-C2DA-4723-8CD0-5BE38754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5A54-6067-4319-8D2A-75EC672B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8FD3-40F9-41AB-9FEF-3D8FE21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0F16-752D-4DC4-B3DD-7B41332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587D8-B403-4A91-A965-267367A4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9B8CA-6B9C-4783-BE39-BA13BFA3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1372-A3FC-401D-B96F-A02F26A9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23E0A-888E-4B1D-9673-C72A9840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2EE-CF72-4DB9-940B-594233B8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DB7-A248-443E-955D-92139D5B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4A3A-9099-4EA4-8B51-1A4AF44C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7E2-4F2B-4E33-86B3-0DFE19A9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10C-CB84-462E-955B-5A86AE4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D8A4-8B18-4E61-A9BA-256E01C55FC4}" type="datetime">
              <a:rPr b="0" lang="it-IT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41AF-3008-40AD-908A-E5CA828F8CF4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D0B2-E5A5-42EF-B0F8-17F285B0DB8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BD6-77EB-4202-9DBD-A1B859234D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5D18-8103-4832-BFF4-56B8CAFF5644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F003-4221-46D4-BE89-7567524A8E95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olo 1"/>
          <p:cNvSpPr/>
          <p:nvPr/>
        </p:nvSpPr>
        <p:spPr>
          <a:xfrm>
            <a:off x="304920" y="19810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ottotitolo 2"/>
          <p:cNvSpPr/>
          <p:nvPr/>
        </p:nvSpPr>
        <p:spPr>
          <a:xfrm>
            <a:off x="746280" y="5084640"/>
            <a:ext cx="789624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olo 1"/>
          <p:cNvSpPr/>
          <p:nvPr/>
        </p:nvSpPr>
        <p:spPr>
          <a:xfrm>
            <a:off x="345960" y="17460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L’apprendimento cooper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per una didattica efficac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tangolo 1"/>
          <p:cNvSpPr/>
          <p:nvPr/>
        </p:nvSpPr>
        <p:spPr>
          <a:xfrm>
            <a:off x="928800" y="4286160"/>
            <a:ext cx="77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APPRENDERE IN INTERAZIONE CON I COMPAG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Verdana"/>
                <a:ea typeface="ＭＳ Ｐゴシック"/>
              </a:rPr>
              <a:t>Seco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914400" y="563868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Calibri"/>
              </a:rPr>
              <a:t>I.C. Salò                                                                                      Anna  Seg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Calibri"/>
              </a:rPr>
              <a:t>Settembre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arta di giornale"/>
          <p:cNvPicPr/>
          <p:nvPr/>
        </p:nvPicPr>
        <p:blipFill>
          <a:blip r:embed="rId1"/>
          <a:stretch/>
        </p:blipFill>
        <p:spPr>
          <a:xfrm>
            <a:off x="2500200" y="1428840"/>
            <a:ext cx="4181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Rectangle 2"/>
          <p:cNvGrpSpPr/>
          <p:nvPr/>
        </p:nvGrpSpPr>
        <p:grpSpPr>
          <a:xfrm>
            <a:off x="2955960" y="304920"/>
            <a:ext cx="2968560" cy="1706400"/>
            <a:chOff x="2955960" y="304920"/>
            <a:chExt cx="2968560" cy="1706400"/>
          </a:xfrm>
        </p:grpSpPr>
        <p:pic>
          <p:nvPicPr>
            <p:cNvPr id="225" name="Rectangle 2" descr=""/>
            <p:cNvPicPr/>
            <p:nvPr/>
          </p:nvPicPr>
          <p:blipFill>
            <a:blip r:embed="rId1"/>
            <a:stretch/>
          </p:blipFill>
          <p:spPr>
            <a:xfrm>
              <a:off x="2955960" y="304920"/>
              <a:ext cx="2968560" cy="17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073320" y="333360"/>
              <a:ext cx="27370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2f2f2"/>
                  </a:solidFill>
                  <a:latin typeface="Verdana"/>
                  <a:ea typeface="Verdana"/>
                </a:rPr>
                <a:t>LA LEZIO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2f2f2"/>
                  </a:solidFill>
                  <a:latin typeface="Verdana"/>
                  <a:ea typeface="Verdana"/>
                </a:rPr>
                <a:t>COOPERA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AutoShape 3"/>
          <p:cNvSpPr/>
          <p:nvPr/>
        </p:nvSpPr>
        <p:spPr>
          <a:xfrm>
            <a:off x="220680" y="0"/>
            <a:ext cx="2743200" cy="2060640"/>
          </a:xfrm>
          <a:prstGeom prst="rightArrowCallout">
            <a:avLst>
              <a:gd name="adj1" fmla="val 21539"/>
              <a:gd name="adj2" fmla="val 25000"/>
              <a:gd name="adj3" fmla="val 22224"/>
              <a:gd name="adj4" fmla="val 76236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Una s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Calibri"/>
              </a:rPr>
              <a:t>strut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5880240" y="0"/>
            <a:ext cx="3263760" cy="2133720"/>
          </a:xfrm>
          <a:prstGeom prst="leftArrowCallout">
            <a:avLst>
              <a:gd name="adj1" fmla="val 15381"/>
              <a:gd name="adj2" fmla="val 25005"/>
              <a:gd name="adj3" fmla="val 20423"/>
              <a:gd name="adj4" fmla="val 79581"/>
            </a:avLst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Sequ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di pi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strut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30" descr="EDUTE005"/>
          <p:cNvPicPr/>
          <p:nvPr/>
        </p:nvPicPr>
        <p:blipFill>
          <a:blip r:embed="rId2"/>
          <a:stretch/>
        </p:blipFill>
        <p:spPr>
          <a:xfrm>
            <a:off x="1116000" y="3645000"/>
            <a:ext cx="2557440" cy="2736720"/>
          </a:xfrm>
          <a:prstGeom prst="rect">
            <a:avLst/>
          </a:prstGeom>
          <a:ln w="0">
            <a:noFill/>
          </a:ln>
        </p:spPr>
      </p:pic>
      <p:sp>
        <p:nvSpPr>
          <p:cNvPr id="230" name="Fumetto 1 7"/>
          <p:cNvSpPr/>
          <p:nvPr/>
        </p:nvSpPr>
        <p:spPr>
          <a:xfrm>
            <a:off x="4356000" y="2565360"/>
            <a:ext cx="3816360" cy="3600360"/>
          </a:xfrm>
          <a:prstGeom prst="wedgeRectCallout">
            <a:avLst>
              <a:gd name="adj1" fmla="val -67615"/>
              <a:gd name="adj2" fmla="val -15981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Fare pratica di una struttura per volta, partendo dalle più sempl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Introdurre gradatamente nuove strutture, ampliando il proprio reper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0" y="55440"/>
          <a:ext cx="9144000" cy="6802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74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RUT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ZIONE T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RE STRUT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A, DISCUTI IN COPPIA, CONDIV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 cosa già sape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 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NS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6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TICA GUI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A, DISCUTI IN COPPIA, CONDIVI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e potremmo sintetizzare in tre parole chiave …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US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06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TICA AUTO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7991280" cy="12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Calibri"/>
              </a:rPr>
              <a:t>Termini per descrivere l’apprendimento centrato sullo stud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Segnaposto contenuto 4" descr=""/>
          <p:cNvPicPr/>
          <p:nvPr/>
        </p:nvPicPr>
        <p:blipFill>
          <a:blip r:embed="rId1"/>
          <a:stretch/>
        </p:blipFill>
        <p:spPr>
          <a:xfrm>
            <a:off x="109440" y="1255680"/>
            <a:ext cx="882648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83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990000"/>
                </a:solidFill>
                <a:latin typeface="Verdana"/>
                <a:ea typeface="Verdana"/>
              </a:rPr>
              <a:t>Prendi appunti in copp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3640" y="1196640"/>
            <a:ext cx="7583400" cy="49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Prima della lezione/spiegazione, si precisano i titoli degli argomenti che verranno   trattat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Gli studenti riportano i titoli sul foglio, lasciando degli spaz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Durante la spiegazione prendono appunt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Ad ogni sotto-argoment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l’insegnante si ferma e chie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di confrontare ed integr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 </a:t>
            </a: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in coppia gli appunt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3300"/>
                </a:solidFill>
                <a:latin typeface="Calibri"/>
                <a:ea typeface="Times New Roman"/>
              </a:rPr>
              <a:t>Riprende la spiegazio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5" descr="EDUSU023"/>
          <p:cNvPicPr/>
          <p:nvPr/>
        </p:nvPicPr>
        <p:blipFill>
          <a:blip r:embed="rId1"/>
          <a:stretch/>
        </p:blipFill>
        <p:spPr>
          <a:xfrm rot="1929000">
            <a:off x="8091000" y="33480"/>
            <a:ext cx="716040" cy="13334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3743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583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0000"/>
                </a:solidFill>
                <a:latin typeface="Verdana"/>
                <a:ea typeface="Verdana"/>
              </a:rPr>
              <a:t>Team di clas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87280" y="1928520"/>
            <a:ext cx="6769440" cy="366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00"/>
                </a:solidFill>
                <a:latin typeface="Calibri"/>
              </a:rPr>
              <a:t>Richiamare alla mente i concetti già spieg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00"/>
                </a:solidFill>
                <a:latin typeface="Calibri"/>
              </a:rPr>
              <a:t>Rispondere a una dom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00"/>
                </a:solidFill>
                <a:latin typeface="Calibri"/>
              </a:rPr>
              <a:t>Iniziare a risolvere un probl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00"/>
                </a:solidFill>
                <a:latin typeface="Calibri"/>
              </a:rPr>
              <a:t>Elaborare il passaggio successivo di una dimostr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00"/>
                </a:solidFill>
                <a:latin typeface="Calibri"/>
              </a:rPr>
              <a:t>Pensare ad un esempio o ad una applica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3300"/>
                </a:solidFill>
                <a:latin typeface="Calibri"/>
              </a:rPr>
              <a:t>Generare una doma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ttangolo 4"/>
          <p:cNvSpPr/>
          <p:nvPr/>
        </p:nvSpPr>
        <p:spPr>
          <a:xfrm>
            <a:off x="372960" y="966960"/>
            <a:ext cx="813780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Calibri"/>
              </a:rPr>
              <a:t>Formare coppie. Indicare coloro che scriv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Calibri"/>
              </a:rPr>
              <a:t>Dare dai 30 secondi ai 5 minuti per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EDUSU023"/>
          <p:cNvPicPr/>
          <p:nvPr/>
        </p:nvPicPr>
        <p:blipFill>
          <a:blip r:embed="rId1"/>
          <a:stretch/>
        </p:blipFill>
        <p:spPr>
          <a:xfrm rot="2431800">
            <a:off x="7880400" y="19080"/>
            <a:ext cx="714240" cy="1333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1"/>
          <p:cNvSpPr/>
          <p:nvPr/>
        </p:nvSpPr>
        <p:spPr>
          <a:xfrm>
            <a:off x="1482840" y="5661000"/>
            <a:ext cx="6049800" cy="94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Verdana"/>
                <a:ea typeface="Verdana"/>
              </a:rPr>
              <a:t>RACCOGLIERE POI ALCU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Verdana"/>
                <a:ea typeface="Verdana"/>
              </a:rPr>
              <a:t>O TUTTE LE RISPOSTE</a:t>
            </a:r>
            <a:r>
              <a:rPr b="0" lang="it-IT" sz="3200" spc="-1" strike="noStrike">
                <a:solidFill>
                  <a:srgbClr val="99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83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Verdana"/>
                <a:ea typeface="Verdana"/>
              </a:rPr>
              <a:t>Fare lo ‘skimming’ in coppia per imparare una tecnica di visione e di esame generale di un argomento o di un problema prima di affrontar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410920" y="1933560"/>
            <a:ext cx="6481800" cy="344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00"/>
                </a:solidFill>
                <a:latin typeface="Calibri"/>
              </a:rPr>
              <a:t>DESCRIVERE CON CHIAREZZA LA RICHIE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00"/>
                </a:solidFill>
                <a:latin typeface="Calibri"/>
              </a:rPr>
              <a:t>‘</a:t>
            </a:r>
            <a:r>
              <a:rPr b="1" i="1" lang="it-IT" sz="2000" spc="-1" strike="noStrike">
                <a:solidFill>
                  <a:srgbClr val="003300"/>
                </a:solidFill>
                <a:latin typeface="Calibri"/>
              </a:rPr>
              <a:t>Avete 5 minuti per farvi un’idea di ciò di cui tratta il capitolo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00"/>
                </a:solidFill>
                <a:latin typeface="Calibri"/>
              </a:rPr>
              <a:t>‘</a:t>
            </a:r>
            <a:r>
              <a:rPr b="1" i="1" lang="it-IT" sz="2000" spc="-1" strike="noStrike">
                <a:solidFill>
                  <a:srgbClr val="003300"/>
                </a:solidFill>
                <a:latin typeface="Calibri"/>
              </a:rPr>
              <a:t>Avete 5 minuti per scoprire se l’argomento è difficile o facile e per spiegare il perché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00"/>
                </a:solidFill>
                <a:latin typeface="Calibri"/>
              </a:rPr>
              <a:t>‘</a:t>
            </a:r>
            <a:r>
              <a:rPr b="1" i="1" lang="it-IT" sz="2000" spc="-1" strike="noStrike">
                <a:solidFill>
                  <a:srgbClr val="003300"/>
                </a:solidFill>
                <a:latin typeface="Calibri"/>
              </a:rPr>
              <a:t>Avete 5 minuti per capire che tipo di problema è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00"/>
                </a:solidFill>
                <a:latin typeface="Calibri"/>
              </a:rPr>
              <a:t>e per pensare se già ne è  stato svolto uno simile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00"/>
                </a:solidFill>
                <a:latin typeface="Calibri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Immagin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2100240" cy="2664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46" name="CasellaDiTesto 4"/>
          <p:cNvSpPr/>
          <p:nvPr/>
        </p:nvSpPr>
        <p:spPr>
          <a:xfrm>
            <a:off x="2506680" y="5716440"/>
            <a:ext cx="51397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Calibri"/>
              </a:rPr>
              <a:t>IN COPPIA SI SCAMBIANO IN 3 MIN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Calibri"/>
              </a:rPr>
              <a:t>LE IMPRES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COPPIA CHE RAGIONA INSIEME</a:t>
            </a:r>
            <a:br>
              <a:rPr sz="28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(‘Think-Pair-Share’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55280" y="1557000"/>
            <a:ext cx="7583400" cy="142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Times New Roman"/>
              </a:rPr>
              <a:t>Gli studenti pensano alle risposte individualment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Times New Roman"/>
              </a:rPr>
              <a:t>poi in coppia sintetizzano la risposta fina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  <a:ea typeface="Times New Roman"/>
              </a:rPr>
              <a:t>Le coppie condividono le risposte</a:t>
            </a:r>
            <a:r>
              <a:rPr b="0" lang="it-IT" sz="2800" spc="-1" strike="noStrike">
                <a:solidFill>
                  <a:srgbClr val="0033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395280" y="5376960"/>
            <a:ext cx="8078760" cy="9709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Calibri"/>
                <a:ea typeface="Times New Roman"/>
              </a:rPr>
              <a:t>Questa modalità richiede più tempo, ma è più efficace del lavoro di gruppo immedi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ggetto 5"/>
          <p:cNvGraphicFramePr/>
          <p:nvPr/>
        </p:nvGraphicFramePr>
        <p:xfrm>
          <a:off x="6300720" y="2421000"/>
          <a:ext cx="259236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ggett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2421000"/>
                    <a:ext cx="259236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CasellaDiTesto 6"/>
          <p:cNvSpPr/>
          <p:nvPr/>
        </p:nvSpPr>
        <p:spPr>
          <a:xfrm>
            <a:off x="826920" y="3573360"/>
            <a:ext cx="5185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00"/>
                </a:solidFill>
                <a:latin typeface="Calibri"/>
              </a:rPr>
              <a:t>Chiamare a caso uno studente della copp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583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Chiudere la le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4920" y="1268280"/>
            <a:ext cx="6048360" cy="2665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375e"/>
                </a:solidFill>
                <a:latin typeface="Calibri"/>
              </a:rPr>
              <a:t>Interrompere la lezione due minuti pr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375e"/>
                </a:solidFill>
                <a:latin typeface="Calibri"/>
              </a:rPr>
              <a:t>della fine.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375e"/>
                </a:solidFill>
                <a:latin typeface="Calibri"/>
              </a:rPr>
              <a:t>Chiedere agli studenti di scriv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375e"/>
                </a:solidFill>
                <a:latin typeface="Calibri"/>
              </a:rPr>
              <a:t>1. Il punto/i punti più importante/i della       lez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7375e"/>
                </a:solidFill>
                <a:latin typeface="Calibri"/>
              </a:rPr>
              <a:t>2. Il punto/i punti meno chiaro/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5" descr="EDUSU023"/>
          <p:cNvPicPr/>
          <p:nvPr/>
        </p:nvPicPr>
        <p:blipFill>
          <a:blip r:embed="rId1"/>
          <a:stretch/>
        </p:blipFill>
        <p:spPr>
          <a:xfrm rot="2431800">
            <a:off x="7392600" y="36000"/>
            <a:ext cx="714240" cy="1335240"/>
          </a:xfrm>
          <a:prstGeom prst="rect">
            <a:avLst/>
          </a:prstGeom>
          <a:ln w="0">
            <a:noFill/>
          </a:ln>
        </p:spPr>
      </p:pic>
      <p:sp>
        <p:nvSpPr>
          <p:cNvPr id="256" name="Rettangolo 4"/>
          <p:cNvSpPr/>
          <p:nvPr/>
        </p:nvSpPr>
        <p:spPr>
          <a:xfrm>
            <a:off x="395280" y="4653000"/>
            <a:ext cx="7051680" cy="1557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Calibri"/>
                <a:ea typeface="Verdana"/>
              </a:rPr>
              <a:t>RACCOGLIERE I FOG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Calibri"/>
                <a:ea typeface="Verdana"/>
              </a:rPr>
              <a:t>UTILIZZARE LE RISPOSTE PER PROGRAMM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Calibri"/>
                <a:ea typeface="Verdana"/>
              </a:rPr>
              <a:t>LA LEZIONE SUCCES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asellaDiTesto 5"/>
          <p:cNvSpPr/>
          <p:nvPr/>
        </p:nvSpPr>
        <p:spPr>
          <a:xfrm>
            <a:off x="6862680" y="2349360"/>
            <a:ext cx="17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00"/>
                </a:solidFill>
                <a:latin typeface="Arial"/>
              </a:rPr>
              <a:t>Elenco di copp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00"/>
                </a:solidFill>
                <a:latin typeface="Arial"/>
              </a:rPr>
              <a:t>o di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640" y="360360"/>
            <a:ext cx="69800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ESPERIEN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5030640" cy="3488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RUO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it-IT" sz="2400" spc="-1" strike="noStrike">
                <a:solidFill>
                  <a:srgbClr val="000099"/>
                </a:solidFill>
                <a:latin typeface="Calibri"/>
              </a:rPr>
              <a:t>a.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Let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b. Esperto strut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c. Esperto principi cooper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it-IT" sz="2400" spc="-1" strike="noStrike">
                <a:solidFill>
                  <a:srgbClr val="000099"/>
                </a:solidFill>
                <a:latin typeface="Calibri"/>
              </a:rPr>
              <a:t>d. Sintetizza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Fumetto 3 6"/>
          <p:cNvGrpSpPr/>
          <p:nvPr/>
        </p:nvGrpSpPr>
        <p:grpSpPr>
          <a:xfrm>
            <a:off x="5151600" y="-23760"/>
            <a:ext cx="4157640" cy="3321000"/>
            <a:chOff x="5151600" y="-23760"/>
            <a:chExt cx="4157640" cy="3321000"/>
          </a:xfrm>
        </p:grpSpPr>
        <p:pic>
          <p:nvPicPr>
            <p:cNvPr id="261" name="Fumetto 3 6" descr=""/>
            <p:cNvPicPr/>
            <p:nvPr/>
          </p:nvPicPr>
          <p:blipFill>
            <a:blip r:embed="rId1"/>
            <a:stretch/>
          </p:blipFill>
          <p:spPr>
            <a:xfrm>
              <a:off x="5151600" y="-23760"/>
              <a:ext cx="4157640" cy="33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800680" y="479520"/>
              <a:ext cx="2862360" cy="22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Obiettivo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al termine dell’attività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ciascuno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deve essere in grado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di spiegare ad altri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il lavoro esamina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6"/>
          <p:cNvSpPr/>
          <p:nvPr/>
        </p:nvSpPr>
        <p:spPr>
          <a:xfrm rot="21025800">
            <a:off x="192240" y="4569840"/>
            <a:ext cx="4249800" cy="538560"/>
          </a:xfrm>
          <a:custGeom>
            <a:avLst/>
            <a:gdLst>
              <a:gd name="textAreaLeft" fmla="*/ 0 w 4249800"/>
              <a:gd name="textAreaRight" fmla="*/ 4250160 w 4249800"/>
              <a:gd name="textAreaTop" fmla="*/ 69840 h 538560"/>
              <a:gd name="textAreaBottom" fmla="*/ 468720 h 53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Uno a casa, gli altri in vi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Fumetto 3 8"/>
          <p:cNvGrpSpPr/>
          <p:nvPr/>
        </p:nvGrpSpPr>
        <p:grpSpPr>
          <a:xfrm>
            <a:off x="5778360" y="3090960"/>
            <a:ext cx="3481560" cy="2292120"/>
            <a:chOff x="5778360" y="3090960"/>
            <a:chExt cx="3481560" cy="2292120"/>
          </a:xfrm>
        </p:grpSpPr>
        <p:pic>
          <p:nvPicPr>
            <p:cNvPr id="265" name="Fumetto 3 8" descr=""/>
            <p:cNvPicPr/>
            <p:nvPr/>
          </p:nvPicPr>
          <p:blipFill>
            <a:blip r:embed="rId2"/>
            <a:stretch/>
          </p:blipFill>
          <p:spPr>
            <a:xfrm>
              <a:off x="5778360" y="3090960"/>
              <a:ext cx="3481560" cy="22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316560" y="3641760"/>
              <a:ext cx="2341800" cy="13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Se trovate una struttura ch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ffff00"/>
                  </a:solidFill>
                  <a:latin typeface="Calibri"/>
                </a:rPr>
                <a:t>non conoscete …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CasellaDiTesto 9"/>
          <p:cNvSpPr/>
          <p:nvPr/>
        </p:nvSpPr>
        <p:spPr>
          <a:xfrm>
            <a:off x="-30240" y="5445000"/>
            <a:ext cx="89996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ＭＳ Ｐゴシック"/>
              </a:rPr>
              <a:t>http://memoesperienze.comune.modena.it/appr_cooperativo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Callout con freccia a destra 10"/>
          <p:cNvGrpSpPr/>
          <p:nvPr/>
        </p:nvGrpSpPr>
        <p:grpSpPr>
          <a:xfrm>
            <a:off x="3292560" y="5931000"/>
            <a:ext cx="1797120" cy="896760"/>
            <a:chOff x="3292560" y="5931000"/>
            <a:chExt cx="1797120" cy="896760"/>
          </a:xfrm>
        </p:grpSpPr>
        <p:pic>
          <p:nvPicPr>
            <p:cNvPr id="269" name="Callout con freccia a destra 10" descr=""/>
            <p:cNvPicPr/>
            <p:nvPr/>
          </p:nvPicPr>
          <p:blipFill>
            <a:blip r:embed="rId4"/>
            <a:stretch/>
          </p:blipFill>
          <p:spPr>
            <a:xfrm>
              <a:off x="3292560" y="5931000"/>
              <a:ext cx="17971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 rot="16200000">
              <a:off x="3946320" y="5611680"/>
              <a:ext cx="45864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qu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Risultati immagini per generare idee in gruppo"/>
          <p:cNvPicPr/>
          <p:nvPr/>
        </p:nvPicPr>
        <p:blipFill>
          <a:blip r:embed="rId1"/>
          <a:stretch/>
        </p:blipFill>
        <p:spPr>
          <a:xfrm>
            <a:off x="2987640" y="1557360"/>
            <a:ext cx="6254640" cy="4162320"/>
          </a:xfrm>
          <a:prstGeom prst="rect">
            <a:avLst/>
          </a:prstGeom>
          <a:ln w="0">
            <a:noFill/>
          </a:ln>
        </p:spPr>
      </p:pic>
      <p:sp>
        <p:nvSpPr>
          <p:cNvPr id="272" name="CasellaDiTesto 2"/>
          <p:cNvSpPr/>
          <p:nvPr/>
        </p:nvSpPr>
        <p:spPr>
          <a:xfrm>
            <a:off x="31680" y="26028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  <a:ea typeface="Verdana"/>
              </a:rPr>
              <a:t>Che cosa abbiamo impar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Verdana"/>
                <a:ea typeface="Verdana"/>
              </a:rPr>
              <a:t>di nuovo dalle esperienze altr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6"/>
          <p:cNvSpPr/>
          <p:nvPr/>
        </p:nvSpPr>
        <p:spPr>
          <a:xfrm rot="19985400">
            <a:off x="42840" y="2838240"/>
            <a:ext cx="4248000" cy="538560"/>
          </a:xfrm>
          <a:custGeom>
            <a:avLst/>
            <a:gdLst>
              <a:gd name="textAreaLeft" fmla="*/ 0 w 4248000"/>
              <a:gd name="textAreaRight" fmla="*/ 4248000 w 4248000"/>
              <a:gd name="textAreaTop" fmla="*/ 69840 h 538560"/>
              <a:gd name="textAreaBottom" fmla="*/ 468720 h 53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llaDiTesto 3"/>
          <p:cNvSpPr/>
          <p:nvPr/>
        </p:nvSpPr>
        <p:spPr>
          <a:xfrm>
            <a:off x="192960" y="5856120"/>
            <a:ext cx="28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RIFLE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328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COME E’ ANDATA VENERDI’?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000" y="1593720"/>
            <a:ext cx="8064360" cy="43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Come siete stati divisi in gruppi? Perché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00"/>
                </a:solidFill>
                <a:latin typeface="Calibri"/>
              </a:rPr>
              <a:t> </a:t>
            </a: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Pensate che la strutturazione delle attività vi abbia  aiutato ad apprendere? Perché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Quale vi sembra la cosa più importante che avete imparato nell’incontro? Perché è importan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00"/>
                </a:solidFill>
                <a:latin typeface="Calibri"/>
              </a:rPr>
              <a:t>Come avete svolto le attività? In che cosa potreste migliorare per rendere più produttivo il lavor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6"/>
          <p:cNvSpPr/>
          <p:nvPr/>
        </p:nvSpPr>
        <p:spPr>
          <a:xfrm rot="774000">
            <a:off x="6515640" y="1326960"/>
            <a:ext cx="3003480" cy="578880"/>
          </a:xfrm>
          <a:custGeom>
            <a:avLst/>
            <a:gdLst>
              <a:gd name="textAreaLeft" fmla="*/ 0 w 3003480"/>
              <a:gd name="textAreaRight" fmla="*/ 3003840 w 300348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ne al cent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751280" y="0"/>
            <a:ext cx="439272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OVVERO </a:t>
            </a:r>
            <a:r>
              <a:rPr b="0" lang="it-IT" sz="4400" spc="-1" strike="noStrike">
                <a:solidFill>
                  <a:srgbClr val="990000"/>
                </a:solidFill>
                <a:latin typeface="Verdana"/>
                <a:ea typeface="Verdan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32" descr=""/>
          <p:cNvPicPr/>
          <p:nvPr/>
        </p:nvPicPr>
        <p:blipFill>
          <a:blip r:embed="rId1"/>
          <a:stretch/>
        </p:blipFill>
        <p:spPr>
          <a:xfrm>
            <a:off x="250920" y="658800"/>
            <a:ext cx="4602240" cy="5329080"/>
          </a:xfrm>
          <a:prstGeom prst="rect">
            <a:avLst/>
          </a:prstGeom>
          <a:ln w="0">
            <a:noFill/>
          </a:ln>
        </p:spPr>
      </p:pic>
      <p:grpSp>
        <p:nvGrpSpPr>
          <p:cNvPr id="277" name="Rectangle 3"/>
          <p:cNvGrpSpPr/>
          <p:nvPr/>
        </p:nvGrpSpPr>
        <p:grpSpPr>
          <a:xfrm>
            <a:off x="5022720" y="1042920"/>
            <a:ext cx="4859640" cy="5119920"/>
            <a:chOff x="5022720" y="1042920"/>
            <a:chExt cx="4859640" cy="5119920"/>
          </a:xfrm>
        </p:grpSpPr>
        <p:pic>
          <p:nvPicPr>
            <p:cNvPr id="278" name="Rectangle 3" descr=""/>
            <p:cNvPicPr/>
            <p:nvPr/>
          </p:nvPicPr>
          <p:blipFill>
            <a:blip r:embed="rId2"/>
            <a:stretch/>
          </p:blipFill>
          <p:spPr>
            <a:xfrm>
              <a:off x="5022720" y="1042920"/>
              <a:ext cx="485964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076720" y="1125360"/>
              <a:ext cx="3959280" cy="48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Lo studente “silenzioso”                             è uno student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sotto-stimolato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in quan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non impegna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in tutti i processi cognitiv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necessari  p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l’apprendimen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4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di qualità superiore</a:t>
              </a:r>
              <a:r>
                <a:rPr b="1" lang="it-IT" sz="2800" spc="-1" strike="noStrike">
                  <a:solidFill>
                    <a:srgbClr val="ffff00"/>
                  </a:solidFill>
                  <a:latin typeface="Calibri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CasellaDiTesto 1"/>
          <p:cNvSpPr/>
          <p:nvPr/>
        </p:nvSpPr>
        <p:spPr>
          <a:xfrm>
            <a:off x="971640" y="549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STRUTTURE P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766800" y="1327320"/>
            <a:ext cx="3809880" cy="4887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ire un buon clima di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Sviluppare 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viluppare competenze comunic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878360" y="1327320"/>
            <a:ext cx="4011480" cy="488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zione del clima di clas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zione del clima di grup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Padronanza delle conoscen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Competenze cogn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Condivisione di informa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olare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ruire la comunic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Connettore 2 5"/>
          <p:cNvCxnSpPr>
            <a:endCxn id="282" idx="1"/>
          </p:cNvCxnSpPr>
          <p:nvPr/>
        </p:nvCxnSpPr>
        <p:spPr>
          <a:xfrm>
            <a:off x="4066920" y="3771720"/>
            <a:ext cx="811800" cy="10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77640" y="259920"/>
            <a:ext cx="7583400" cy="7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Verdana"/>
              </a:rPr>
              <a:t>CERCA LA STRUTTURA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924360" y="1341360"/>
            <a:ext cx="4968720" cy="2519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iflette sulle situazioni proposte dalla sch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cidete quale o quali strutture potrebbero essere funzionali allo scopo che vi prefigg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3348000" y="4965120"/>
            <a:ext cx="5688000" cy="950040"/>
          </a:xfrm>
          <a:custGeom>
            <a:avLst/>
            <a:gdLst>
              <a:gd name="textAreaLeft" fmla="*/ 0 w 5688000"/>
              <a:gd name="textAreaRight" fmla="*/ 5688360 w 5688000"/>
              <a:gd name="textAreaTop" fmla="*/ 123120 h 950040"/>
              <a:gd name="textAreaBottom" fmla="*/ 826920 h 950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Scegliete voi la struttura che volete utilizzare per lavorare nel vostro grupp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Immagine 5" descr="C:\Users\Anna\Documents\Memo pubblicazione\materiale lavorati -\II PARTE\MATE\omino.gif"/>
          <p:cNvPicPr/>
          <p:nvPr/>
        </p:nvPicPr>
        <p:blipFill>
          <a:blip r:embed="rId1"/>
          <a:stretch/>
        </p:blipFill>
        <p:spPr>
          <a:xfrm>
            <a:off x="-181080" y="404640"/>
            <a:ext cx="29163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46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990000"/>
                </a:solidFill>
                <a:latin typeface="Calibri"/>
              </a:rPr>
              <a:t>APPLIC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6080" y="1341000"/>
            <a:ext cx="4219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Calibri"/>
              </a:rPr>
              <a:t>Pensate a come inseri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Calibri"/>
              </a:rPr>
              <a:t>in una vostra prossima lezi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Calibri"/>
              </a:rPr>
              <a:t>una delle strutture speriment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90000"/>
                </a:solidFill>
                <a:latin typeface="Calibri"/>
              </a:rPr>
              <a:t>Specificate concretamente la vostra consegna/richie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Immagine 3" descr=""/>
          <p:cNvPicPr/>
          <p:nvPr/>
        </p:nvPicPr>
        <p:blipFill>
          <a:blip r:embed="rId1"/>
          <a:stretch/>
        </p:blipFill>
        <p:spPr>
          <a:xfrm>
            <a:off x="4427640" y="0"/>
            <a:ext cx="4533840" cy="3357720"/>
          </a:xfrm>
          <a:prstGeom prst="rect">
            <a:avLst/>
          </a:prstGeom>
          <a:ln w="0">
            <a:noFill/>
          </a:ln>
        </p:spPr>
      </p:pic>
      <p:sp>
        <p:nvSpPr>
          <p:cNvPr id="291" name="Callout con freccia in giù 4"/>
          <p:cNvSpPr/>
          <p:nvPr/>
        </p:nvSpPr>
        <p:spPr>
          <a:xfrm>
            <a:off x="4643280" y="3716280"/>
            <a:ext cx="3313440" cy="914400"/>
          </a:xfrm>
          <a:prstGeom prst="downArrowCallout">
            <a:avLst>
              <a:gd name="adj1" fmla="val 24999"/>
              <a:gd name="adj2" fmla="val 24996"/>
              <a:gd name="adj3" fmla="val 25000"/>
              <a:gd name="adj4" fmla="val 64977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alibri"/>
              </a:rPr>
              <a:t>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ttangolo 5"/>
          <p:cNvSpPr/>
          <p:nvPr/>
        </p:nvSpPr>
        <p:spPr>
          <a:xfrm>
            <a:off x="4643280" y="4869000"/>
            <a:ext cx="3313440" cy="64764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Calibri"/>
              </a:rPr>
              <a:t>CONDIVISIONE IN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8483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990000"/>
                </a:solidFill>
                <a:latin typeface="Verdana"/>
                <a:ea typeface="Verdana"/>
              </a:rPr>
              <a:t>Un roundtable per chiudere l’incon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564000" y="2133720"/>
            <a:ext cx="5472000" cy="345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alibri"/>
              </a:rPr>
              <a:t>Un’idea forte che mi porto a casa è 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alibri"/>
              </a:rPr>
              <a:t>Una domanda che vorrei porre è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006600"/>
                </a:solidFill>
                <a:latin typeface="Calibri"/>
              </a:rPr>
              <a:t>Il principale motivo per cui potrei decidere di utilizzare la cooperazione in classe è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00"/>
                </a:solidFill>
                <a:latin typeface="Calibri"/>
              </a:rPr>
              <a:t>Ripensando a come abbiamo lavorato nel gruppo mi viene da dire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142920" y="2060640"/>
            <a:ext cx="3154320" cy="4105080"/>
          </a:xfrm>
          <a:prstGeom prst="rect">
            <a:avLst/>
          </a:prstGeom>
          <a:ln w="0">
            <a:noFill/>
          </a:ln>
        </p:spPr>
      </p:pic>
      <p:sp>
        <p:nvSpPr>
          <p:cNvPr id="296" name="Rettangolo 4"/>
          <p:cNvSpPr/>
          <p:nvPr/>
        </p:nvSpPr>
        <p:spPr>
          <a:xfrm>
            <a:off x="3924360" y="4508640"/>
            <a:ext cx="1839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520"/>
            <a:ext cx="7583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AMPLIAMO IL BAGAGLI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5713560" y="2060640"/>
            <a:ext cx="207000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rte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4" descr="D:\Documenti\I.C. Castelnuovo_MO\Castelnuovo 28 nov\MC900298457.WMF"/>
          <p:cNvPicPr/>
          <p:nvPr/>
        </p:nvPicPr>
        <p:blipFill>
          <a:blip r:embed="rId1"/>
          <a:stretch/>
        </p:blipFill>
        <p:spPr>
          <a:xfrm>
            <a:off x="2193840" y="1700280"/>
            <a:ext cx="3457800" cy="37195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3"/>
          <p:cNvSpPr/>
          <p:nvPr/>
        </p:nvSpPr>
        <p:spPr>
          <a:xfrm>
            <a:off x="378000" y="1933560"/>
            <a:ext cx="217944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r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ro di tav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668760" y="5684760"/>
            <a:ext cx="217800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-op Co-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216000" y="3029040"/>
            <a:ext cx="217944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udio in cop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387360" y="1038240"/>
            <a:ext cx="217980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ste numerate ins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6238800" y="2754360"/>
            <a:ext cx="247176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ro in gall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778200" y="6257880"/>
            <a:ext cx="1959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und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417600" y="4233960"/>
            <a:ext cx="2160360" cy="825480"/>
          </a:xfrm>
          <a:prstGeom prst="rect">
            <a:avLst/>
          </a:prstGeom>
          <a:solidFill>
            <a:srgbClr val="fdeada"/>
          </a:solidFill>
          <a:ln w="2844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ne al 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Connettore 2 3"/>
          <p:cNvCxnSpPr/>
          <p:nvPr/>
        </p:nvCxnSpPr>
        <p:spPr>
          <a:xfrm flipH="1">
            <a:off x="5097240" y="1869840"/>
            <a:ext cx="411840" cy="38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4" name="Text Box 10"/>
          <p:cNvSpPr/>
          <p:nvPr/>
        </p:nvSpPr>
        <p:spPr>
          <a:xfrm>
            <a:off x="5764320" y="1069920"/>
            <a:ext cx="33084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nsa, discuti in copp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div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5713560" y="3446640"/>
            <a:ext cx="312732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ollo reciproco in cop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6329520" y="5456160"/>
            <a:ext cx="217944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uzzle ad una dim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5657760"/>
            <a:ext cx="2919600" cy="825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pedisci le tue do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28760" y="4863960"/>
            <a:ext cx="2160360" cy="459720"/>
          </a:xfrm>
          <a:prstGeom prst="rect">
            <a:avLst/>
          </a:prstGeom>
          <a:solidFill>
            <a:srgbClr val="fdeada"/>
          </a:solidFill>
          <a:ln w="28440">
            <a:solidFill>
              <a:srgbClr val="ff66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ig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911920" y="4494240"/>
            <a:ext cx="3127320" cy="4597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opri l’er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75931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Verdana"/>
              </a:rPr>
              <a:t>STUDIAMO INSI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60240" y="4937040"/>
            <a:ext cx="3600720" cy="106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Gruppi di espe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B_OPL053"/>
          <p:cNvPicPr/>
          <p:nvPr/>
        </p:nvPicPr>
        <p:blipFill>
          <a:blip r:embed="rId2"/>
          <a:stretch/>
        </p:blipFill>
        <p:spPr>
          <a:xfrm>
            <a:off x="5299200" y="857160"/>
            <a:ext cx="3844800" cy="285768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6"/>
          <p:cNvSpPr/>
          <p:nvPr/>
        </p:nvSpPr>
        <p:spPr>
          <a:xfrm rot="774000">
            <a:off x="6104520" y="5043600"/>
            <a:ext cx="2855880" cy="578880"/>
          </a:xfrm>
          <a:custGeom>
            <a:avLst/>
            <a:gdLst>
              <a:gd name="textAreaLeft" fmla="*/ 0 w 2855880"/>
              <a:gd name="textAreaRight" fmla="*/ 2856240 w 285588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igs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522360" y="1206360"/>
            <a:ext cx="3600360" cy="1065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Gruppi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971640" y="249228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Dividetevi i fogli delle strut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Controllo recipr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Spedisci le tue do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Trova l’err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Puzzle ad una dim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asellaDiTesto 2"/>
          <p:cNvSpPr/>
          <p:nvPr/>
        </p:nvSpPr>
        <p:spPr>
          <a:xfrm>
            <a:off x="660240" y="60228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Formate i gruppi di espe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387360" y="549360"/>
            <a:ext cx="8137440" cy="5500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Analizzate la struttura: individuate le fasi e i vari passaggi per attu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Ipotizzate ambiti di utilizzo nelle vostre classi: concretizzate con ese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Riflettete: quali i punti di forza della strut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alibri"/>
              </a:rPr>
              <a:t>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Mi sembra interessante perché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Quali attenzioni aggiun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Come formare coppie e/o grupp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Come organizzare lo spazio aul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           </a:t>
            </a:r>
            <a:r>
              <a:rPr b="1" i="1" lang="it-IT" sz="2000" spc="-1" strike="noStrike">
                <a:solidFill>
                  <a:srgbClr val="000066"/>
                </a:solidFill>
                <a:latin typeface="Calibri"/>
              </a:rPr>
              <a:t>Come condurre l’attivit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ttangolo arrotondato 1"/>
          <p:cNvSpPr/>
          <p:nvPr/>
        </p:nvSpPr>
        <p:spPr>
          <a:xfrm rot="1234200">
            <a:off x="6102360" y="3720600"/>
            <a:ext cx="2930400" cy="2936880"/>
          </a:xfrm>
          <a:custGeom>
            <a:avLst/>
            <a:gdLst>
              <a:gd name="textAreaLeft" fmla="*/ 142920 w 2930400"/>
              <a:gd name="textAreaRight" fmla="*/ 2787480 w 2930400"/>
              <a:gd name="textAreaTop" fmla="*/ 142920 h 2936880"/>
              <a:gd name="textAreaBottom" fmla="*/ 2793960 h 2936880"/>
            </a:gdLst>
            <a:ahLst/>
            <a:rect l="textAreaLeft" t="textAreaTop" r="textAreaRight" b="textAreaBottom"/>
            <a:pathLst>
              <a:path w="21600" h="21648">
                <a:moveTo>
                  <a:pt x="3600" y="0"/>
                </a:moveTo>
                <a:arcTo wR="3600" hR="3600" stAng="16200000" swAng="-5400000"/>
                <a:lnTo>
                  <a:pt x="0" y="18048"/>
                </a:lnTo>
                <a:arcTo wR="3600" hR="3600" stAng="10800000" swAng="-5400000"/>
                <a:lnTo>
                  <a:pt x="18000" y="216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4964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reparatevi ad illustrare ad alt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strut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 turno fate una simulazione della vostra spiegazio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ccia a destra 4"/>
          <p:cNvSpPr/>
          <p:nvPr/>
        </p:nvSpPr>
        <p:spPr>
          <a:xfrm rot="811200">
            <a:off x="96480" y="-153720"/>
            <a:ext cx="2127240" cy="10828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ESPE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028" descr="MCj01986130000[1]"/>
          <p:cNvPicPr/>
          <p:nvPr/>
        </p:nvPicPr>
        <p:blipFill>
          <a:blip r:embed="rId1"/>
          <a:stretch/>
        </p:blipFill>
        <p:spPr>
          <a:xfrm>
            <a:off x="4140360" y="-74520"/>
            <a:ext cx="5003640" cy="4317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01" name="Freccia a destra 4"/>
          <p:cNvSpPr/>
          <p:nvPr/>
        </p:nvSpPr>
        <p:spPr>
          <a:xfrm rot="811200">
            <a:off x="77400" y="6120"/>
            <a:ext cx="3500640" cy="108252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39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GRUPPO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5222880" cy="4303440"/>
          </a:xfrm>
          <a:prstGeom prst="rect">
            <a:avLst/>
          </a:prstGeom>
          <a:solidFill>
            <a:srgbClr val="fcd5b5"/>
          </a:solidFill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A rotazione spiegate la vostra strut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Illustrate gli esempi e le vostre rifless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Verificate la comprensione, ponendo doman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14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RIPENSANDO AL </a:t>
            </a:r>
            <a:br>
              <a:rPr sz="3200"/>
            </a:br>
            <a:r>
              <a:rPr b="1" lang="it-IT" sz="3200" spc="-1" strike="noStrike">
                <a:solidFill>
                  <a:srgbClr val="ffff00"/>
                </a:solidFill>
                <a:latin typeface="Verdana"/>
              </a:rPr>
              <a:t>JIGSAW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9600" y="1557360"/>
            <a:ext cx="4857840" cy="169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In che misura i princip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dell’apprendimento cooperati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sono “infusi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     </a:t>
            </a:r>
            <a:r>
              <a:rPr b="1" lang="it-IT" sz="2400" spc="-1" strike="noStrike">
                <a:solidFill>
                  <a:srgbClr val="800000"/>
                </a:solidFill>
                <a:latin typeface="Calibri"/>
              </a:rPr>
              <a:t>nella struttura sperimentat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13" descr="D:\Documenti\Immagini\pot\punto-interrogativo.jpg"/>
          <p:cNvPicPr/>
          <p:nvPr/>
        </p:nvPicPr>
        <p:blipFill>
          <a:blip r:embed="rId1"/>
          <a:stretch/>
        </p:blipFill>
        <p:spPr>
          <a:xfrm>
            <a:off x="5273640" y="30240"/>
            <a:ext cx="3882960" cy="5559480"/>
          </a:xfrm>
          <a:prstGeom prst="rect">
            <a:avLst/>
          </a:prstGeom>
          <a:ln w="0">
            <a:noFill/>
          </a:ln>
        </p:spPr>
      </p:pic>
      <p:grpSp>
        <p:nvGrpSpPr>
          <p:cNvPr id="206" name="CasellaDiTesto 1"/>
          <p:cNvGrpSpPr/>
          <p:nvPr/>
        </p:nvGrpSpPr>
        <p:grpSpPr>
          <a:xfrm>
            <a:off x="182520" y="3760920"/>
            <a:ext cx="4334040" cy="2212920"/>
            <a:chOff x="182520" y="3760920"/>
            <a:chExt cx="4334040" cy="2212920"/>
          </a:xfrm>
        </p:grpSpPr>
        <p:pic>
          <p:nvPicPr>
            <p:cNvPr id="207" name="CasellaDiTesto 1" descr=""/>
            <p:cNvPicPr/>
            <p:nvPr/>
          </p:nvPicPr>
          <p:blipFill>
            <a:blip r:embed="rId2"/>
            <a:stretch/>
          </p:blipFill>
          <p:spPr>
            <a:xfrm>
              <a:off x="182520" y="3760920"/>
              <a:ext cx="433404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17520" y="3838680"/>
              <a:ext cx="4141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Interdipendenza positiv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Responsabilità person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Valutazione individu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Pratica di abilità socia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3300"/>
                  </a:solidFill>
                  <a:latin typeface="Calibri"/>
                </a:rPr>
                <a:t>Revis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6"/>
          <p:cNvSpPr/>
          <p:nvPr/>
        </p:nvSpPr>
        <p:spPr>
          <a:xfrm rot="774000">
            <a:off x="4283280" y="5642280"/>
            <a:ext cx="3524400" cy="578880"/>
          </a:xfrm>
          <a:custGeom>
            <a:avLst/>
            <a:gdLst>
              <a:gd name="textAreaLeft" fmla="*/ 0 w 3524400"/>
              <a:gd name="textAreaRight" fmla="*/ 3524760 w 3524400"/>
              <a:gd name="textAreaTop" fmla="*/ 74880 h 578880"/>
              <a:gd name="textAreaBottom" fmla="*/ 504000 h 5788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e6e0ec"/>
          </a:solidFill>
          <a:ln w="316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ste numerate insie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04400" y="4680"/>
            <a:ext cx="81392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APPRENDIMENTO COOPERATIVO</a:t>
            </a:r>
            <a:br>
              <a:rPr sz="28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PER UN </a:t>
            </a:r>
            <a:br>
              <a:rPr sz="2800"/>
            </a:br>
            <a:r>
              <a:rPr b="1" lang="it-IT" sz="2800" spc="-1" strike="noStrike">
                <a:solidFill>
                  <a:srgbClr val="990000"/>
                </a:solidFill>
                <a:latin typeface="Verdana"/>
                <a:ea typeface="Verdana"/>
              </a:rPr>
              <a:t>APPRENDIMENTO PROFON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4500720" y="1700280"/>
            <a:ext cx="3919320" cy="4176720"/>
          </a:xfrm>
          <a:prstGeom prst="wedgeRectCallout">
            <a:avLst>
              <a:gd name="adj1" fmla="val -86648"/>
              <a:gd name="adj2" fmla="val -29245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C:\Programmi\Microsoft Office\Clipart\standard\stddir4\TR00539_.wmf"/>
          <p:cNvPicPr/>
          <p:nvPr/>
        </p:nvPicPr>
        <p:blipFill>
          <a:blip r:embed="rId1"/>
          <a:srcRect l="-7270" t="-4228" r="0" b="52311"/>
          <a:stretch/>
        </p:blipFill>
        <p:spPr>
          <a:xfrm>
            <a:off x="179280" y="1444680"/>
            <a:ext cx="3240360" cy="405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4749480" y="1700280"/>
            <a:ext cx="191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Se ascol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740120" y="1704960"/>
            <a:ext cx="196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</a:rPr>
              <a:t>…</a:t>
            </a:r>
            <a:r>
              <a:rPr b="1" lang="it-IT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</a:rPr>
              <a:t>v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707000" y="299736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pongo 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disc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4708440" y="40417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app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30840" y="4713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… </a:t>
            </a:r>
            <a:r>
              <a:rPr b="1" lang="it-IT" sz="2800" spc="-1" strike="noStrike">
                <a:solidFill>
                  <a:srgbClr val="003300"/>
                </a:solidFill>
                <a:latin typeface="Calibri"/>
                <a:ea typeface="ＭＳ Ｐゴシック"/>
              </a:rPr>
              <a:t>inseg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Documento 1"/>
          <p:cNvGrpSpPr/>
          <p:nvPr/>
        </p:nvGrpSpPr>
        <p:grpSpPr>
          <a:xfrm>
            <a:off x="554040" y="4657680"/>
            <a:ext cx="3719520" cy="2279520"/>
            <a:chOff x="554040" y="4657680"/>
            <a:chExt cx="3719520" cy="2279520"/>
          </a:xfrm>
        </p:grpSpPr>
        <p:pic>
          <p:nvPicPr>
            <p:cNvPr id="219" name="Documento 1" descr=""/>
            <p:cNvPicPr/>
            <p:nvPr/>
          </p:nvPicPr>
          <p:blipFill>
            <a:blip r:embed="rId2"/>
            <a:stretch/>
          </p:blipFill>
          <p:spPr>
            <a:xfrm>
              <a:off x="554040" y="4657680"/>
              <a:ext cx="371952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rot="20479800">
              <a:off x="674280" y="5218200"/>
              <a:ext cx="34495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alibri"/>
                </a:rPr>
                <a:t>Alto livell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Calibri"/>
                </a:rPr>
                <a:t>di elabor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7848360" cy="60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Hanno un no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Sono codificate in passi “rigid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Si integrano nelle normali lezio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Responsabilizzazione di ciascu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Leadership distribuita/ruoli alterna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Allenamento di abilità comunicative e soci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“</a:t>
            </a: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Giocano” tutti i principi del C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Utilizzabile per qualsiasi e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Trasversali a qualsivoglia conten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1e1c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e1c11"/>
                </a:solidFill>
                <a:latin typeface="Calibri"/>
              </a:rPr>
              <a:t>Facilmente acquisib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umetto 2 6"/>
          <p:cNvSpPr/>
          <p:nvPr/>
        </p:nvSpPr>
        <p:spPr>
          <a:xfrm rot="889800">
            <a:off x="5643360" y="426600"/>
            <a:ext cx="3527280" cy="1511280"/>
          </a:xfrm>
          <a:prstGeom prst="wedgeRoundRectCallout">
            <a:avLst>
              <a:gd name="adj1" fmla="val 45055"/>
              <a:gd name="adj2" fmla="val -68726"/>
              <a:gd name="adj3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31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e cosa hanno in comune le strutture speriment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D:\Documenti\Immagini\cerchio.jpg"/>
          <p:cNvPicPr/>
          <p:nvPr/>
        </p:nvPicPr>
        <p:blipFill>
          <a:blip r:embed="rId1"/>
          <a:stretch/>
        </p:blipFill>
        <p:spPr>
          <a:xfrm>
            <a:off x="6443640" y="4508640"/>
            <a:ext cx="253044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8:28:19Z</dcterms:created>
  <dc:creator>Francy</dc:creator>
  <dc:description/>
  <dc:language>en-US</dc:language>
  <cp:lastModifiedBy>Anna</cp:lastModifiedBy>
  <cp:lastPrinted>2016-09-03T15:12:12Z</cp:lastPrinted>
  <dcterms:modified xsi:type="dcterms:W3CDTF">2016-09-05T19:36:19Z</dcterms:modified>
  <cp:revision>907</cp:revision>
  <dc:subject/>
  <dc:title>GESTIRE LA CLASSE COMUNITA’ DI APPRENDIMENTO</dc:title>
</cp:coreProperties>
</file>