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388A-ACEF-47C9-BA7B-4AC181D38FB7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5149-5647-4644-8BFC-714953AD31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egnaposto numero diapositiva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FEB7-718E-4A0E-8F6E-1E28E10A23D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5F9-C208-4D7D-A79F-82CCAA74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463-E32F-46F5-A555-CAAC8358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78D-F47A-4932-BE31-9142BC53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B49-6B07-4082-AFAF-1BCC3E08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20C0-0AA0-4DC4-BA0C-3ACC005E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30E3-5C90-4CBC-A51E-ABD77A8A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456D-F15C-43E3-8DAD-BAC2AC4F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368B-B92E-4825-BDA6-0457931D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7A11-AB7B-4A73-AF01-AEC0EE6E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4985-BBEC-40B2-8E36-4C4B37EA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CF20-BCCE-4722-BF98-77884BA9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BFA-4F19-4E73-9BCC-2A21224A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2A47-5E4B-40D3-A92C-AADD8102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BF33-544F-46FF-AD41-F46A08C8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937A-A6FE-4FD5-A30C-3E8A5538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FC0E-626E-4885-8811-7E0F5EBC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91F4-BE33-437B-B4DC-82EA6258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D19-7809-429B-B5B5-DBF0003A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6A1-A2F4-41A9-8709-8A8777BD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8DC-08D0-4D66-BD56-9A01E49A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672-CD8A-4D38-AE3B-083A1463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242-B394-49FD-A6E1-23A7E24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068-95E7-4053-87C0-E33E710A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CEA-B82A-4017-9C87-75D329DC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293C-7EDB-4BB9-A600-ED1ED12888C0}" type="datetime">
              <a:rPr b="0" lang="it-IT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BD56-13CE-4D39-8FF2-0A0034BB785C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97E2-C8A6-4DCE-9A0D-A47A27D99DD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7A9D-21E7-46EC-ADFD-EAB9D1CD7E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monitorare.doc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frm=1&amp;source=images&amp;cd=&amp;cad=rja&amp;uact=8&amp;ved=0ahUKEwi3-diLr8LKAhXIVRoKHdCKA34QjRwIBw&amp;url=http://www.treccani.it/scuola/lezioni/in_aula/matematica/relazioni_funzioni/cavallaro.html&amp;psig=AFQjCNGF40loQae0kIulVjvs6ebohZPRLQ&amp;ust=1453722076431454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olo 1"/>
          <p:cNvSpPr/>
          <p:nvPr/>
        </p:nvSpPr>
        <p:spPr>
          <a:xfrm>
            <a:off x="304920" y="19810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ottotitolo 2"/>
          <p:cNvSpPr/>
          <p:nvPr/>
        </p:nvSpPr>
        <p:spPr>
          <a:xfrm>
            <a:off x="746280" y="5084640"/>
            <a:ext cx="789624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olo 1"/>
          <p:cNvSpPr/>
          <p:nvPr/>
        </p:nvSpPr>
        <p:spPr>
          <a:xfrm>
            <a:off x="539640" y="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L’apprendimento cooper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per una didattica efficac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ttangolo 1"/>
          <p:cNvSpPr/>
          <p:nvPr/>
        </p:nvSpPr>
        <p:spPr>
          <a:xfrm>
            <a:off x="828720" y="4286160"/>
            <a:ext cx="810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APPRENDIMENTO COOPERA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IN 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14400" y="563868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Calibri"/>
              </a:rPr>
              <a:t>I.C. Salò                                                                                      Anna  Seg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Calibri"/>
              </a:rPr>
              <a:t>Settembre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arta di giornale"/>
          <p:cNvPicPr/>
          <p:nvPr/>
        </p:nvPicPr>
        <p:blipFill>
          <a:blip r:embed="rId1"/>
          <a:stretch/>
        </p:blipFill>
        <p:spPr>
          <a:xfrm>
            <a:off x="2500200" y="1428840"/>
            <a:ext cx="4181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7848360" cy="607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Hanno un n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Sono codificate in passi “rigid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“</a:t>
            </a: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Giocano” tutti i principi del C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Si integrano nelle normali le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Responsabilizzazione di ciascu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Leadership distribuita/ruoli altern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Allenamento di abilità comunicative e soci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Utilizzabile per qualsiasi e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Trasversali a qualsivoglia conten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Facilmente acquisibi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umetto 2 6"/>
          <p:cNvSpPr/>
          <p:nvPr/>
        </p:nvSpPr>
        <p:spPr>
          <a:xfrm rot="889800">
            <a:off x="5687640" y="431640"/>
            <a:ext cx="3527280" cy="1162080"/>
          </a:xfrm>
          <a:prstGeom prst="wedgeRoundRectCallout">
            <a:avLst>
              <a:gd name="adj1" fmla="val 45055"/>
              <a:gd name="adj2" fmla="val -68726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31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rutture, ancor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D:\Documenti\Immagini\cerchio.jpg"/>
          <p:cNvPicPr/>
          <p:nvPr/>
        </p:nvPicPr>
        <p:blipFill>
          <a:blip r:embed="rId1"/>
          <a:stretch/>
        </p:blipFill>
        <p:spPr>
          <a:xfrm>
            <a:off x="6443640" y="4508640"/>
            <a:ext cx="253044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asellaDiTesto 1"/>
          <p:cNvSpPr/>
          <p:nvPr/>
        </p:nvSpPr>
        <p:spPr>
          <a:xfrm>
            <a:off x="971640" y="549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STRUTTURE P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6800" y="1327320"/>
            <a:ext cx="3809880" cy="4887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ruire un buon clima di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Sviluppare 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viluppare competenze comunic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878360" y="1327320"/>
            <a:ext cx="4011480" cy="488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Costruzione del clima di cl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Costruzione del clima di grup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Padronanza delle conosc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Competenze cogn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Condivisione di informazioni ed elabor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olare la comun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ruire la comun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Connettore 2 5"/>
          <p:cNvCxnSpPr>
            <a:endCxn id="139" idx="1"/>
          </p:cNvCxnSpPr>
          <p:nvPr/>
        </p:nvCxnSpPr>
        <p:spPr>
          <a:xfrm>
            <a:off x="4066920" y="3771720"/>
            <a:ext cx="81180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7640" y="259920"/>
            <a:ext cx="75834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it-IT" sz="3200" spc="-1" strike="noStrike">
                <a:solidFill>
                  <a:srgbClr val="ffff00"/>
                </a:solidFill>
                <a:latin typeface="Verdana"/>
                <a:ea typeface="Verdana"/>
              </a:rPr>
              <a:t>CERCA LA STRUTTUR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924360" y="1341360"/>
            <a:ext cx="4968720" cy="251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flette sulle situazioni proposte dalla sch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cidete quale o quali strutture potrebbero essere funzionali allo scopo che vi prefigg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3225960" y="5171400"/>
            <a:ext cx="5689440" cy="950040"/>
          </a:xfrm>
          <a:custGeom>
            <a:avLst/>
            <a:gdLst>
              <a:gd name="textAreaLeft" fmla="*/ 0 w 5689440"/>
              <a:gd name="textAreaRight" fmla="*/ 5689800 w 5689440"/>
              <a:gd name="textAreaTop" fmla="*/ 123120 h 950040"/>
              <a:gd name="textAreaBottom" fmla="*/ 826920 h 950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cegliete voi la struttura che volete utilizzare per lavorare nel vostro grupp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Immagine 5" descr="C:\Users\Anna\Documents\Memo pubblicazione\materiale lavorati -\II PARTE\MATE\omino.gif"/>
          <p:cNvPicPr/>
          <p:nvPr/>
        </p:nvPicPr>
        <p:blipFill>
          <a:blip r:embed="rId1"/>
          <a:stretch/>
        </p:blipFill>
        <p:spPr>
          <a:xfrm>
            <a:off x="-181080" y="404640"/>
            <a:ext cx="29163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23920" y="907560"/>
            <a:ext cx="890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ovvero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quando la cooperazione non funzi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2600" indent="-2826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0120" y="2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Verdana"/>
                <a:ea typeface="Verdana"/>
              </a:rPr>
              <a:t>IN CLASSE CON LA SIGNORA  TO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umetto 2 4"/>
          <p:cNvSpPr/>
          <p:nvPr/>
        </p:nvSpPr>
        <p:spPr>
          <a:xfrm>
            <a:off x="299880" y="2349360"/>
            <a:ext cx="3857760" cy="1352520"/>
          </a:xfrm>
          <a:prstGeom prst="wedgeRoundRectCallout">
            <a:avLst>
              <a:gd name="adj1" fmla="val -53037"/>
              <a:gd name="adj2" fmla="val -42597"/>
              <a:gd name="adj3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800000"/>
                </a:solidFill>
                <a:latin typeface="Calibri"/>
              </a:rPr>
              <a:t>Quali  ‘patologie’ riconoscete nei grupp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1"/>
          <a:stretch/>
        </p:blipFill>
        <p:spPr>
          <a:xfrm>
            <a:off x="4757760" y="2503440"/>
            <a:ext cx="3006720" cy="4121280"/>
          </a:xfrm>
          <a:prstGeom prst="rect">
            <a:avLst/>
          </a:prstGeom>
          <a:ln w="0">
            <a:noFill/>
          </a:ln>
        </p:spPr>
      </p:pic>
      <p:grpSp>
        <p:nvGrpSpPr>
          <p:cNvPr id="149" name="Fumetto 2 6"/>
          <p:cNvGrpSpPr/>
          <p:nvPr/>
        </p:nvGrpSpPr>
        <p:grpSpPr>
          <a:xfrm>
            <a:off x="6808680" y="1809720"/>
            <a:ext cx="2401920" cy="1646280"/>
            <a:chOff x="6808680" y="1809720"/>
            <a:chExt cx="2401920" cy="1646280"/>
          </a:xfrm>
        </p:grpSpPr>
        <p:pic>
          <p:nvPicPr>
            <p:cNvPr id="150" name="Fumetto 2 6" descr=""/>
            <p:cNvPicPr/>
            <p:nvPr/>
          </p:nvPicPr>
          <p:blipFill>
            <a:blip r:embed="rId2"/>
            <a:stretch/>
          </p:blipFill>
          <p:spPr>
            <a:xfrm>
              <a:off x="6808680" y="1809720"/>
              <a:ext cx="24019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988320" y="1905120"/>
              <a:ext cx="21063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eaeaea"/>
                  </a:solidFill>
                  <a:latin typeface="Calibri"/>
                </a:rPr>
                <a:t>Sbaglia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eaeaea"/>
                  </a:solidFill>
                  <a:latin typeface="Calibri"/>
                </a:rPr>
                <a:t>qualcosa 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6"/>
          <p:cNvSpPr/>
          <p:nvPr/>
        </p:nvSpPr>
        <p:spPr>
          <a:xfrm rot="20607600">
            <a:off x="199440" y="5083200"/>
            <a:ext cx="4527360" cy="578880"/>
          </a:xfrm>
          <a:custGeom>
            <a:avLst/>
            <a:gdLst>
              <a:gd name="textAreaLeft" fmla="*/ 0 w 4527360"/>
              <a:gd name="textAreaRight" fmla="*/ 4527360 w 4527360"/>
              <a:gd name="textAreaTop" fmla="*/ 74880 h 578880"/>
              <a:gd name="textAreaBottom" fmla="*/ 504000 h 578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Pensa, discuti in coppia, condivi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2" descr=""/>
          <p:cNvPicPr/>
          <p:nvPr/>
        </p:nvPicPr>
        <p:blipFill>
          <a:blip r:embed="rId1"/>
          <a:stretch/>
        </p:blipFill>
        <p:spPr>
          <a:xfrm>
            <a:off x="0" y="1989000"/>
            <a:ext cx="3276720" cy="4756320"/>
          </a:xfrm>
          <a:prstGeom prst="rect">
            <a:avLst/>
          </a:prstGeom>
          <a:ln w="0">
            <a:noFill/>
          </a:ln>
        </p:spPr>
      </p:pic>
      <p:sp>
        <p:nvSpPr>
          <p:cNvPr id="154" name="CasellaDiTesto 2"/>
          <p:cNvSpPr/>
          <p:nvPr/>
        </p:nvSpPr>
        <p:spPr>
          <a:xfrm>
            <a:off x="4643280" y="61272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Elencate gli erro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della signora T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 rot="519000">
            <a:off x="4711680" y="5902560"/>
            <a:ext cx="4068720" cy="578880"/>
          </a:xfrm>
          <a:custGeom>
            <a:avLst/>
            <a:gdLst>
              <a:gd name="textAreaLeft" fmla="*/ 0 w 4068720"/>
              <a:gd name="textAreaRight" fmla="*/ 4069080 w 4068720"/>
              <a:gd name="textAreaTop" fmla="*/ 74880 h 578880"/>
              <a:gd name="textAreaBottom" fmla="*/ 504000 h 578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Alzati e condivi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Fumetto 2 10"/>
          <p:cNvGrpSpPr/>
          <p:nvPr/>
        </p:nvGrpSpPr>
        <p:grpSpPr>
          <a:xfrm>
            <a:off x="1603440" y="444600"/>
            <a:ext cx="2803320" cy="2243160"/>
            <a:chOff x="1603440" y="444600"/>
            <a:chExt cx="2803320" cy="2243160"/>
          </a:xfrm>
        </p:grpSpPr>
        <p:pic>
          <p:nvPicPr>
            <p:cNvPr id="157" name="Fumetto 2 10" descr=""/>
            <p:cNvPicPr/>
            <p:nvPr/>
          </p:nvPicPr>
          <p:blipFill>
            <a:blip r:embed="rId2"/>
            <a:stretch/>
          </p:blipFill>
          <p:spPr>
            <a:xfrm>
              <a:off x="1603440" y="444600"/>
              <a:ext cx="2803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779480" y="565200"/>
              <a:ext cx="2482920" cy="16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eaeaea"/>
                  </a:solidFill>
                  <a:latin typeface="Calibri"/>
                </a:rPr>
                <a:t>Grazie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eaeaea"/>
                  </a:solidFill>
                  <a:latin typeface="Calibri"/>
                </a:rPr>
                <a:t>t</a:t>
              </a:r>
              <a:r>
                <a:rPr b="1" lang="it-IT" sz="2800" spc="-1" strike="noStrike">
                  <a:solidFill>
                    <a:srgbClr val="eaeaea"/>
                  </a:solidFill>
                  <a:latin typeface="Calibri"/>
                </a:rPr>
                <a:t>errò prese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Segnaposto contenuto 5" descr=""/>
          <p:cNvPicPr/>
          <p:nvPr/>
        </p:nvPicPr>
        <p:blipFill>
          <a:blip r:embed="rId3"/>
          <a:stretch/>
        </p:blipFill>
        <p:spPr>
          <a:xfrm>
            <a:off x="5772240" y="2125800"/>
            <a:ext cx="33717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2" descr=""/>
          <p:cNvPicPr/>
          <p:nvPr/>
        </p:nvPicPr>
        <p:blipFill>
          <a:blip r:embed="rId1"/>
          <a:stretch/>
        </p:blipFill>
        <p:spPr>
          <a:xfrm>
            <a:off x="290520" y="2421000"/>
            <a:ext cx="3129120" cy="4348080"/>
          </a:xfrm>
          <a:prstGeom prst="rect">
            <a:avLst/>
          </a:prstGeom>
          <a:ln w="0">
            <a:noFill/>
          </a:ln>
        </p:spPr>
      </p:pic>
      <p:sp>
        <p:nvSpPr>
          <p:cNvPr id="161" name="CasellaDiTesto 5"/>
          <p:cNvSpPr/>
          <p:nvPr/>
        </p:nvSpPr>
        <p:spPr>
          <a:xfrm rot="19944000">
            <a:off x="230400" y="783000"/>
            <a:ext cx="2590560" cy="916920"/>
          </a:xfrm>
          <a:prstGeom prst="rect">
            <a:avLst/>
          </a:prstGeom>
          <a:solidFill>
            <a:srgbClr val="c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.O.S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Fumetto 2 6"/>
          <p:cNvGrpSpPr/>
          <p:nvPr/>
        </p:nvGrpSpPr>
        <p:grpSpPr>
          <a:xfrm>
            <a:off x="3382920" y="560520"/>
            <a:ext cx="4187880" cy="2109600"/>
            <a:chOff x="3382920" y="560520"/>
            <a:chExt cx="4187880" cy="2109600"/>
          </a:xfrm>
        </p:grpSpPr>
        <p:pic>
          <p:nvPicPr>
            <p:cNvPr id="163" name="Fumetto 2 6" descr=""/>
            <p:cNvPicPr/>
            <p:nvPr/>
          </p:nvPicPr>
          <p:blipFill>
            <a:blip r:embed="rId2"/>
            <a:stretch/>
          </p:blipFill>
          <p:spPr>
            <a:xfrm>
              <a:off x="3382920" y="560520"/>
              <a:ext cx="4187880" cy="21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300560" y="676440"/>
              <a:ext cx="3127320" cy="16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eaeaea"/>
                  </a:solidFill>
                  <a:latin typeface="Calibri"/>
                </a:rPr>
                <a:t>Scusate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eaeaea"/>
                  </a:solidFill>
                  <a:latin typeface="Calibri"/>
                </a:rPr>
                <a:t>potreste essere più chiari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Fumetto 2 7"/>
          <p:cNvGrpSpPr/>
          <p:nvPr/>
        </p:nvGrpSpPr>
        <p:grpSpPr>
          <a:xfrm>
            <a:off x="3206880" y="2676600"/>
            <a:ext cx="4376520" cy="1914480"/>
            <a:chOff x="3206880" y="2676600"/>
            <a:chExt cx="4376520" cy="1914480"/>
          </a:xfrm>
        </p:grpSpPr>
        <p:pic>
          <p:nvPicPr>
            <p:cNvPr id="166" name="Fumetto 2 7" descr=""/>
            <p:cNvPicPr/>
            <p:nvPr/>
          </p:nvPicPr>
          <p:blipFill>
            <a:blip r:embed="rId3"/>
            <a:stretch/>
          </p:blipFill>
          <p:spPr>
            <a:xfrm>
              <a:off x="3206880" y="2676600"/>
              <a:ext cx="437652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313160" y="2797200"/>
              <a:ext cx="3129120" cy="16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eaeaea"/>
                  </a:solidFill>
                  <a:latin typeface="Calibri"/>
                </a:rPr>
                <a:t>Potreste farmi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eaeaea"/>
                  </a:solidFill>
                  <a:latin typeface="Calibri"/>
                </a:rPr>
                <a:t>un esempio concreto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020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Verdana"/>
                <a:ea typeface="ＭＳ Ｐゴシック"/>
              </a:rPr>
              <a:t>ACCOGLIAMO L’ACCORATO APPELL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ttangolo 3"/>
          <p:cNvSpPr/>
          <p:nvPr/>
        </p:nvSpPr>
        <p:spPr>
          <a:xfrm>
            <a:off x="223920" y="2133720"/>
            <a:ext cx="4749840" cy="137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Progettate in piccoli gruppi una reale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per la vostra classe</a:t>
            </a:r>
            <a:r>
              <a:rPr b="1" lang="it-IT" sz="20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sellaDiTesto 6"/>
          <p:cNvSpPr/>
          <p:nvPr/>
        </p:nvSpPr>
        <p:spPr>
          <a:xfrm>
            <a:off x="250920" y="4076640"/>
            <a:ext cx="374472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Utilizzate una o più strut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D:\Documenti\valutazione autentica\I.C. PRATO 2011.12\lavori in corso.bmp"/>
          <p:cNvPicPr/>
          <p:nvPr/>
        </p:nvPicPr>
        <p:blipFill>
          <a:blip r:embed="rId3"/>
          <a:stretch/>
        </p:blipFill>
        <p:spPr>
          <a:xfrm>
            <a:off x="5724360" y="1052640"/>
            <a:ext cx="3240360" cy="2592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72" name="Rectangle 1029"/>
          <p:cNvSpPr/>
          <p:nvPr/>
        </p:nvSpPr>
        <p:spPr>
          <a:xfrm>
            <a:off x="4816440" y="4308480"/>
            <a:ext cx="3897360" cy="174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PRENDETE TUTTE LE DECISIONI CONN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Lasciate in sospeso dove non vi sentite sic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sellaDiTesto 1"/>
          <p:cNvSpPr/>
          <p:nvPr/>
        </p:nvSpPr>
        <p:spPr>
          <a:xfrm>
            <a:off x="279360" y="55548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anna.segreto@libero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7583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Verdana"/>
                <a:ea typeface="Verdana"/>
              </a:rPr>
              <a:t>STRUMENTI PER ORIENTAR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Immagine 4" descr=""/>
          <p:cNvPicPr/>
          <p:nvPr/>
        </p:nvPicPr>
        <p:blipFill>
          <a:blip r:embed="rId1"/>
          <a:stretch/>
        </p:blipFill>
        <p:spPr>
          <a:xfrm>
            <a:off x="1620720" y="1233360"/>
            <a:ext cx="5256360" cy="4824720"/>
          </a:xfrm>
          <a:prstGeom prst="rect">
            <a:avLst/>
          </a:prstGeom>
          <a:ln w="0">
            <a:noFill/>
          </a:ln>
        </p:spPr>
      </p:pic>
      <p:sp>
        <p:nvSpPr>
          <p:cNvPr id="176" name="Pergamena 1 1"/>
          <p:cNvSpPr/>
          <p:nvPr/>
        </p:nvSpPr>
        <p:spPr>
          <a:xfrm>
            <a:off x="0" y="1233360"/>
            <a:ext cx="3125880" cy="187164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00"/>
                </a:solidFill>
                <a:latin typeface="Calibri"/>
                <a:ea typeface="Times New Roman"/>
              </a:rPr>
              <a:t>PROCESSI DECIS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ergamena 1 7"/>
          <p:cNvSpPr/>
          <p:nvPr/>
        </p:nvSpPr>
        <p:spPr>
          <a:xfrm>
            <a:off x="6156360" y="1231920"/>
            <a:ext cx="3125880" cy="187164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00"/>
                </a:solidFill>
                <a:latin typeface="Calibri"/>
                <a:ea typeface="Times New Roman"/>
              </a:rPr>
              <a:t>GRIGLIA PER REGIST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riangolo isoscele 2"/>
          <p:cNvSpPr/>
          <p:nvPr/>
        </p:nvSpPr>
        <p:spPr>
          <a:xfrm rot="17761200">
            <a:off x="104400" y="2770200"/>
            <a:ext cx="766800" cy="712800"/>
          </a:xfrm>
          <a:prstGeom prst="triangle">
            <a:avLst>
              <a:gd name="adj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riangolo isoscele 6"/>
          <p:cNvSpPr/>
          <p:nvPr/>
        </p:nvSpPr>
        <p:spPr>
          <a:xfrm rot="3724200">
            <a:off x="8394840" y="2742840"/>
            <a:ext cx="766800" cy="712800"/>
          </a:xfrm>
          <a:prstGeom prst="triangle">
            <a:avLst>
              <a:gd name="adj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1235160"/>
            <a:ext cx="7583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pic>
        <p:nvPicPr>
          <p:cNvPr id="181" name="Immagine 3" descr="https://encrypted-tbn3.gstatic.com/images?q=tbn:ANd9GcTiujUeF_UGNTgd-8hlM-s3yi1fxRJYCb3UyPULHm_ry9TNpCtGJg"/>
          <p:cNvPicPr/>
          <p:nvPr/>
        </p:nvPicPr>
        <p:blipFill>
          <a:blip r:embed="rId1"/>
          <a:stretch/>
        </p:blipFill>
        <p:spPr>
          <a:xfrm>
            <a:off x="0" y="-69840"/>
            <a:ext cx="9109080" cy="6905520"/>
          </a:xfrm>
          <a:prstGeom prst="rect">
            <a:avLst/>
          </a:prstGeom>
          <a:ln w="0">
            <a:noFill/>
          </a:ln>
        </p:spPr>
      </p:pic>
      <p:sp>
        <p:nvSpPr>
          <p:cNvPr id="182" name="Titolo 1"/>
          <p:cNvSpPr/>
          <p:nvPr/>
        </p:nvSpPr>
        <p:spPr>
          <a:xfrm>
            <a:off x="2700360" y="2276640"/>
            <a:ext cx="3456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Apprendimento cooperativo è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 rot="414000">
            <a:off x="5949000" y="5821920"/>
            <a:ext cx="3108240" cy="578880"/>
          </a:xfrm>
          <a:custGeom>
            <a:avLst/>
            <a:gdLst>
              <a:gd name="textAreaLeft" fmla="*/ 0 w 3108240"/>
              <a:gd name="textAreaRight" fmla="*/ 3108600 w 3108240"/>
              <a:gd name="textAreaTop" fmla="*/ 74880 h 578880"/>
              <a:gd name="textAreaBottom" fmla="*/ 504000 h 578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Dichiarazione di grup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9" descr=""/>
          <p:cNvPicPr/>
          <p:nvPr/>
        </p:nvPicPr>
        <p:blipFill>
          <a:blip r:embed="rId1"/>
          <a:stretch/>
        </p:blipFill>
        <p:spPr>
          <a:xfrm>
            <a:off x="-19080" y="1440"/>
            <a:ext cx="9198000" cy="6956640"/>
          </a:xfrm>
          <a:prstGeom prst="rect">
            <a:avLst/>
          </a:prstGeom>
          <a:ln w="0">
            <a:noFill/>
          </a:ln>
        </p:spPr>
      </p:pic>
      <p:sp>
        <p:nvSpPr>
          <p:cNvPr id="96" name="CasellaDiTesto 10"/>
          <p:cNvSpPr/>
          <p:nvPr/>
        </p:nvSpPr>
        <p:spPr>
          <a:xfrm>
            <a:off x="5651640" y="5300640"/>
            <a:ext cx="3492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Verdana"/>
                <a:ea typeface="Verdana"/>
              </a:rPr>
              <a:t>COME IER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00000"/>
                </a:solidFill>
                <a:latin typeface="Verdana"/>
                <a:ea typeface="Verdana"/>
              </a:rPr>
              <a:t>PRONTI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87280" y="5589360"/>
            <a:ext cx="8856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Calibri"/>
              </a:rPr>
              <a:t>MI HANNO DETTO DI FARLI LAVOR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Calibri"/>
              </a:rPr>
              <a:t>IN GRUPP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GESTIRE LA CLA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>
            <a:hlinkClick r:id="rId1"/>
          </p:cNvPr>
          <p:cNvSpPr/>
          <p:nvPr/>
        </p:nvSpPr>
        <p:spPr>
          <a:xfrm>
            <a:off x="468360" y="1628640"/>
            <a:ext cx="5365800" cy="30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Formare i gru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Organizzare lo spazio a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Dare le conseg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Monitorare il lavoro dei grup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 rot="283800">
            <a:off x="5538600" y="5305680"/>
            <a:ext cx="3251520" cy="428760"/>
          </a:xfrm>
          <a:prstGeom prst="rect">
            <a:avLst/>
          </a:prstGeom>
          <a:solidFill>
            <a:srgbClr val="e6e0ec"/>
          </a:solidFill>
          <a:ln w="31680">
            <a:solidFill>
              <a:srgbClr val="e46c0a"/>
            </a:solidFill>
            <a:miter/>
          </a:ln>
        </p:spPr>
        <p:txBody>
          <a:bodyPr anchor="b">
            <a:norm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Prendi appunti in copp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560" y="5516280"/>
            <a:ext cx="73389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Verdana"/>
                <a:ea typeface="Verdana"/>
              </a:rPr>
              <a:t>Formazione dei grup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ttangolo 1"/>
          <p:cNvSpPr/>
          <p:nvPr/>
        </p:nvSpPr>
        <p:spPr>
          <a:xfrm>
            <a:off x="3619440" y="981000"/>
            <a:ext cx="267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GRUPPI CAS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tangolo 2"/>
          <p:cNvSpPr/>
          <p:nvPr/>
        </p:nvSpPr>
        <p:spPr>
          <a:xfrm>
            <a:off x="4284720" y="2616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GRUPPI FORM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DALL’INSEG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ttangolo 3"/>
          <p:cNvSpPr/>
          <p:nvPr/>
        </p:nvSpPr>
        <p:spPr>
          <a:xfrm>
            <a:off x="5563440" y="4187880"/>
            <a:ext cx="29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GRUPPI EL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08000" y="1400040"/>
            <a:ext cx="3203640" cy="2432160"/>
          </a:xfrm>
          <a:prstGeom prst="rect">
            <a:avLst/>
          </a:prstGeom>
          <a:ln w="9360">
            <a:solidFill>
              <a:srgbClr val="ff6600"/>
            </a:solidFill>
            <a:round/>
          </a:ln>
        </p:spPr>
      </p:pic>
      <p:sp>
        <p:nvSpPr>
          <p:cNvPr id="108" name="Triangolo isoscele 6"/>
          <p:cNvSpPr/>
          <p:nvPr/>
        </p:nvSpPr>
        <p:spPr>
          <a:xfrm rot="2590200">
            <a:off x="7975440" y="2574720"/>
            <a:ext cx="735120" cy="863280"/>
          </a:xfrm>
          <a:prstGeom prst="triangle">
            <a:avLst>
              <a:gd name="adj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83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Disposizione dei p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44600" y="1981080"/>
            <a:ext cx="1295280" cy="6098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132000" y="1949400"/>
            <a:ext cx="1143000" cy="6858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357800" y="194328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Nuovo"/>
          <p:cNvPicPr/>
          <p:nvPr/>
        </p:nvPicPr>
        <p:blipFill>
          <a:blip r:embed="rId1"/>
          <a:stretch/>
        </p:blipFill>
        <p:spPr>
          <a:xfrm>
            <a:off x="4389480" y="2682720"/>
            <a:ext cx="2133720" cy="35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OPPIA"/>
          <p:cNvPicPr/>
          <p:nvPr/>
        </p:nvPicPr>
        <p:blipFill>
          <a:blip r:embed="rId2"/>
          <a:srcRect l="0" t="14283" r="0" b="0"/>
          <a:stretch/>
        </p:blipFill>
        <p:spPr>
          <a:xfrm>
            <a:off x="6875640" y="1949400"/>
            <a:ext cx="1828800" cy="164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GRUPPO4"/>
          <p:cNvPicPr/>
          <p:nvPr/>
        </p:nvPicPr>
        <p:blipFill>
          <a:blip r:embed="rId3"/>
          <a:srcRect l="0" t="13965" r="0" b="0"/>
          <a:stretch/>
        </p:blipFill>
        <p:spPr>
          <a:xfrm>
            <a:off x="6875640" y="4076640"/>
            <a:ext cx="1828800" cy="1692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0"/>
          <p:cNvSpPr/>
          <p:nvPr/>
        </p:nvSpPr>
        <p:spPr>
          <a:xfrm>
            <a:off x="3883320" y="134136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360800" y="130176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013120" y="1308240"/>
            <a:ext cx="5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4posti"/>
          <p:cNvPicPr/>
          <p:nvPr/>
        </p:nvPicPr>
        <p:blipFill>
          <a:blip r:embed="rId4"/>
          <a:srcRect l="0" t="7451" r="0" b="0"/>
          <a:stretch/>
        </p:blipFill>
        <p:spPr>
          <a:xfrm>
            <a:off x="117360" y="4530600"/>
            <a:ext cx="4135680" cy="2049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420000" y="657000"/>
            <a:ext cx="2520000" cy="91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182880" t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3399"/>
                </a:solidFill>
                <a:latin typeface="Calibri"/>
              </a:rPr>
              <a:t>Dare conseg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3399"/>
                </a:solidFill>
                <a:latin typeface="Calibri"/>
              </a:rPr>
              <a:t>verbali e scrit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6516720" y="2627280"/>
            <a:ext cx="2271600" cy="585720"/>
          </a:xfrm>
          <a:prstGeom prst="wedgeRoundRectCallout">
            <a:avLst>
              <a:gd name="adj1" fmla="val 48222"/>
              <a:gd name="adj2" fmla="val 925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Copioni di 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564000" y="4437000"/>
            <a:ext cx="2303280" cy="838440"/>
          </a:xfrm>
          <a:prstGeom prst="wedgeRoundRectCallout">
            <a:avLst>
              <a:gd name="adj1" fmla="val 50467"/>
              <a:gd name="adj2" fmla="val -4924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3399"/>
                </a:solidFill>
                <a:latin typeface="Calibri"/>
                <a:ea typeface="ＭＳ Ｐゴシック"/>
              </a:rPr>
              <a:t>Verificare la comprens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ccia a incrocio 1"/>
          <p:cNvSpPr/>
          <p:nvPr/>
        </p:nvSpPr>
        <p:spPr>
          <a:xfrm>
            <a:off x="2916360" y="2060640"/>
            <a:ext cx="3527280" cy="20811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Verdana"/>
                <a:ea typeface="Verdana"/>
              </a:rPr>
              <a:t>CONSEGNE EFFIC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umetto 3 3"/>
          <p:cNvSpPr/>
          <p:nvPr/>
        </p:nvSpPr>
        <p:spPr>
          <a:xfrm>
            <a:off x="-324000" y="3416400"/>
            <a:ext cx="3240360" cy="2808360"/>
          </a:xfrm>
          <a:prstGeom prst="wedgeEllipseCallout">
            <a:avLst>
              <a:gd name="adj1" fmla="val -45625"/>
              <a:gd name="adj2" fmla="val -4904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00"/>
                </a:solidFill>
                <a:latin typeface="Calibri"/>
              </a:rPr>
              <a:t>UN CONSIGL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00"/>
                </a:solidFill>
                <a:latin typeface="Calibri"/>
              </a:rPr>
              <a:t>non rispondere alle domande individ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2"/>
          <p:cNvSpPr/>
          <p:nvPr/>
        </p:nvSpPr>
        <p:spPr>
          <a:xfrm>
            <a:off x="3753360" y="6021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BO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5516280"/>
            <a:ext cx="75837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00"/>
                </a:solidFill>
                <a:latin typeface="Verdana"/>
                <a:ea typeface="Verdana"/>
              </a:rPr>
              <a:t>MONITORA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treccani.it/export/sites/default/Portale/resources/images/sito/scuola/in_aula/matematica/archivio/relazioni_funzioni/cavallaro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628640"/>
            <a:ext cx="6626520" cy="3562560"/>
          </a:xfrm>
          <a:prstGeom prst="rect">
            <a:avLst/>
          </a:prstGeom>
          <a:ln w="0">
            <a:noFill/>
          </a:ln>
        </p:spPr>
      </p:pic>
      <p:sp>
        <p:nvSpPr>
          <p:cNvPr id="128" name="CasellaDiTesto 5"/>
          <p:cNvSpPr/>
          <p:nvPr/>
        </p:nvSpPr>
        <p:spPr>
          <a:xfrm>
            <a:off x="916560" y="476280"/>
            <a:ext cx="64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0000"/>
                </a:solidFill>
                <a:latin typeface="Verdana"/>
                <a:ea typeface="Verdana"/>
              </a:rPr>
              <a:t>Mentre i gruppi lavorano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trazione 6"/>
          <p:cNvSpPr/>
          <p:nvPr/>
        </p:nvSpPr>
        <p:spPr>
          <a:xfrm rot="4759200">
            <a:off x="6501960" y="5470560"/>
            <a:ext cx="685800" cy="685800"/>
          </a:xfrm>
          <a:prstGeom prst="flowChartExtra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1442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umetto 3 4"/>
          <p:cNvSpPr/>
          <p:nvPr/>
        </p:nvSpPr>
        <p:spPr>
          <a:xfrm>
            <a:off x="752400" y="0"/>
            <a:ext cx="3027600" cy="1976400"/>
          </a:xfrm>
          <a:prstGeom prst="wedgeEllipseCallout">
            <a:avLst>
              <a:gd name="adj1" fmla="val -73245"/>
              <a:gd name="adj2" fmla="val -23731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Calibri"/>
              </a:rPr>
              <a:t>Simultaneità nel  gest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Calibri"/>
              </a:rPr>
              <a:t>i materia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zitti-3"/>
          <p:cNvPicPr/>
          <p:nvPr/>
        </p:nvPicPr>
        <p:blipFill>
          <a:blip r:embed="rId1"/>
          <a:stretch/>
        </p:blipFill>
        <p:spPr>
          <a:xfrm rot="20505000">
            <a:off x="1816200" y="3252960"/>
            <a:ext cx="4476600" cy="3358800"/>
          </a:xfrm>
          <a:prstGeom prst="rect">
            <a:avLst/>
          </a:prstGeom>
          <a:ln w="0">
            <a:noFill/>
          </a:ln>
        </p:spPr>
      </p:pic>
      <p:sp>
        <p:nvSpPr>
          <p:cNvPr id="132" name="Fumetto 3 3"/>
          <p:cNvSpPr/>
          <p:nvPr/>
        </p:nvSpPr>
        <p:spPr>
          <a:xfrm>
            <a:off x="-76320" y="1976400"/>
            <a:ext cx="3353040" cy="1789200"/>
          </a:xfrm>
          <a:prstGeom prst="wedgeEllipseCallout">
            <a:avLst>
              <a:gd name="adj1" fmla="val 27749"/>
              <a:gd name="adj2" fmla="val 65351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Calibri"/>
              </a:rPr>
              <a:t>Seg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Calibri"/>
              </a:rPr>
              <a:t>convenziona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umetto 3 8"/>
          <p:cNvSpPr/>
          <p:nvPr/>
        </p:nvSpPr>
        <p:spPr>
          <a:xfrm rot="837600">
            <a:off x="3611160" y="949320"/>
            <a:ext cx="3807000" cy="2054160"/>
          </a:xfrm>
          <a:prstGeom prst="wedgeEllipseCallout">
            <a:avLst>
              <a:gd name="adj1" fmla="val -31009"/>
              <a:gd name="adj2" fmla="val 8508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Calibri"/>
              </a:rPr>
              <a:t>Tono di voce ba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Calibri"/>
              </a:rPr>
              <a:t>anche dell’insegnan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8:28:19Z</dcterms:created>
  <dc:creator>Francy</dc:creator>
  <dc:description/>
  <dc:language>en-US</dc:language>
  <cp:lastModifiedBy>Anna</cp:lastModifiedBy>
  <cp:lastPrinted>2016-09-07T15:39:21Z</cp:lastPrinted>
  <dcterms:modified xsi:type="dcterms:W3CDTF">2016-09-07T15:40:16Z</dcterms:modified>
  <cp:revision>915</cp:revision>
  <dc:subject/>
  <dc:title>GESTIRE LA CLASSE COMUNITA’ DI APPRENDIMENTO</dc:title>
</cp:coreProperties>
</file>